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BB4-56E3-4807-9590-F8BEA59B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628-BD26-4D27-8ED0-DFCE8034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C12-3346-4FC2-9A07-9DD64A66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FA7-18A2-45E3-B019-90E87770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263C-AEF9-446C-B570-F54B4714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151A-19DA-4E98-B5E5-64B9FF6D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8388-9116-4E91-AB7B-91625EA5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19C6-BAAA-45C1-BFF1-8F3B0E05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56B9-C5C0-447F-B529-A0626890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6E14-9FD8-45CD-84CD-1F7FB68A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185E-0D37-4109-A188-FEF79946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43A-F1BD-4B2F-AA0C-5CD0206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C76F-E842-416D-AA96-9913C59B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ABE8-53FD-4B4C-9D82-70FEF1E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1295-B2F0-46E2-81D5-29D6F286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0FF8-BF19-44AD-BF3E-D858A05C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C500-C762-42D7-9DA0-89D8C679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909-16D5-4667-9D3D-67B3E8E5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159-7F1D-42E5-9381-0529C740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918-F882-4688-AEA6-D6170C4F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22F-1057-4D55-82F5-3F998835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58C-05B9-450B-BC42-3B78C5F6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FDB-958E-48A4-B86D-88F8983C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0BA-B14E-4223-BC36-8B59070F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F318-1D79-49BE-AF09-B6A565F460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AB26-15E9-40D0-8E6C-0B1E9AD6E1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hjelmointiputka.net/projekti.php?tunnus=webc" TargetMode="External"/><Relationship Id="rId2" Type="http://schemas.openxmlformats.org/officeDocument/2006/relationships/hyperlink" Target="http://www.ohjelmointiputka.net/projekti.php?tunnus=webc" TargetMode="External"/><Relationship Id="rId3" Type="http://schemas.openxmlformats.org/officeDocument/2006/relationships/hyperlink" Target="http://www.delusionsoftware.com/WebComponen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6666"/>
                </a:solidFill>
                <a:latin typeface="Arial"/>
              </a:rPr>
              <a:t>WebComponen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tri Veij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EA31-9E89-4746-9DF9-C6696CF3C72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8.11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6666"/>
                </a:solidFill>
                <a:latin typeface="Arial"/>
              </a:rPr>
              <a:t>WebComponen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Verdana"/>
              </a:rPr>
              <a:t>PHP:llä tehty luokkakirja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Verdana"/>
              </a:rPr>
              <a:t>Tarkoitettu PHP-pohjaisten tietokantasovellusten toteuttamiseen ilman, että ohjelmakoodiin tai tietokantaan tarvitsee koske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Verdana"/>
              </a:rPr>
              <a:t>Tukee useimpia tietokannanhallintajärjestelmiä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Käyttää tietokantayhteyksiin PDO: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Verdana"/>
              </a:rPr>
              <a:t>On täysin CSS:llä muotoiltavis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Jokainen kirjaston komponentti sisältää id ja class –määre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Verdana"/>
              </a:rPr>
              <a:t>Tuottaa validia XHTML:ää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Verdana"/>
              </a:rPr>
              <a:t>Tukee usean perusavaimen tauluj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Verdana"/>
              </a:rPr>
              <a:t>Vaatii vähintään PHP:n version 5.1 tai uudem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ri Veij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C58-D3EE-43AA-84B3-C61E6E8B4D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11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tä hyötyä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Verdana"/>
              </a:rPr>
              <a:t>Säästyy aina kirjoittamasta samaa koodia uudelleen ja uudelleen jokaista eri toimintoa vart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Verdana"/>
              </a:rPr>
              <a:t>Nopeuttaa sovelluskehitystä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Verdana"/>
              </a:rPr>
              <a:t>Poistaa koodivirheiden mahdollisuud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Verdana"/>
              </a:rPr>
              <a:t>Säästyy tietokannanluonnilta</a:t>
            </a:r>
            <a:br>
              <a:rPr sz="2500"/>
            </a:br>
            <a:r>
              <a:rPr b="0" lang="fi-FI" sz="2500" spc="-1" strike="noStrike">
                <a:solidFill>
                  <a:srgbClr val="000000"/>
                </a:solidFill>
                <a:latin typeface="Verdana"/>
              </a:rPr>
              <a:t>(generoidaan ohjelmallisest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Verdana"/>
              </a:rPr>
              <a:t>Säästyy kirjoittamasta kaikkien HTML-elementtien nimiä CSS-tiedostoon</a:t>
            </a:r>
            <a:br>
              <a:rPr sz="2500"/>
            </a:br>
            <a:r>
              <a:rPr b="0" lang="fi-FI" sz="2500" spc="-1" strike="noStrike">
                <a:solidFill>
                  <a:srgbClr val="000000"/>
                </a:solidFill>
                <a:latin typeface="Verdana"/>
              </a:rPr>
              <a:t>(generoidaan ohjelmallisest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ri Veij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DAC-12BF-450D-B28E-3C207D86CD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11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tä se tekee ’automaattisesti’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Tietokannan luon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CSS-aihioiden luon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HTML-lomakkeen luon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Lomakkeen käsittel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Lomakekenttien arvojen tarkist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Arvon muotoilu SQL-formaatti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SQL-lauseen luominen ja suorittamine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Arvon muotoilu SQL-formaatista ihmisen ymmärtämään muoto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Kannasta haetun arvon sijoitus HTML-kenttää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Väärästä syötteestä johtuvien virheilmoitusten näyttämine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</a:rPr>
              <a:t>Esim. numerokenttään syötetty tekstiä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ri Veij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2AC-2D61-438D-9949-AE78292D38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11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tä se sisältää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y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atselutoiminnon (yksi taulu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säystoiminnon (yksi taulu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okkaustoiminnon (yksi taulu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istotoiminnon (yksi taulu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ilaisia kenttiä käyttäjän syötettä var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ulevaisuudess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irjautumissysteemi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Järjestettävän katselulomakkeen sivutuksel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kutoiminn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sää erilaisia kenttiä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ri Veij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473-97F7-42EC-A699-4A8B0930EF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11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itä tehtävää sovelluskehittäjälle sitten jää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900" spc="-1" strike="noStrike">
                <a:solidFill>
                  <a:srgbClr val="000000"/>
                </a:solidFill>
                <a:latin typeface="Verdana"/>
              </a:rPr>
              <a:t>Järjestelmän suunnittel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900" spc="-1" strike="noStrike">
                <a:solidFill>
                  <a:srgbClr val="000000"/>
                </a:solidFill>
                <a:latin typeface="Verdana"/>
              </a:rPr>
              <a:t>HTML-tiedostojen luon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900" spc="-1" strike="noStrike">
                <a:solidFill>
                  <a:srgbClr val="000000"/>
                </a:solidFill>
                <a:latin typeface="Verdana"/>
              </a:rPr>
              <a:t>Sovelluksen ulkoasun toteuttaminen valmiiksi generoituun CSS-aihio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ri Veij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154-3FBF-42E1-BAB5-EFD0D572B8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11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6666"/>
                </a:solidFill>
                <a:latin typeface="Arial"/>
              </a:rPr>
              <a:t>WebComponentin kehitysvaiheen UML-mall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83236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ri Veij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E58-203A-4AEB-B3B7-CC8E04A173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11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SE: Henkilötietojenpäivitystoimint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5616360" cy="461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77080" y="2276640"/>
            <a:ext cx="1413000" cy="311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ri Veij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931-9D90-442F-9F5D-FBE0DCFADD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11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nki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ebComponent-projekti</a:t>
            </a:r>
            <a:r>
              <a:rPr b="0" lang="fi-FI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 Ohjelmointiputkass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Alphaversiolla tehty muotoilematon yritys- ja henkilörekiste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tri Veij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6A2-288A-4FA0-A991-1A017D8594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.11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39:43Z</dcterms:created>
  <dc:creator>Cre</dc:creator>
  <dc:description/>
  <dc:language>en-US</dc:language>
  <cp:lastModifiedBy>Cre</cp:lastModifiedBy>
  <dcterms:modified xsi:type="dcterms:W3CDTF">2008-11-18T17:56:32Z</dcterms:modified>
  <cp:revision>13</cp:revision>
  <dc:subject/>
  <dc:title>Dia 1</dc:title>
</cp:coreProperties>
</file>